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82C-9CA6-46BA-8495-2AC9FF39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AB8-9D5C-4E26-BC34-DA413168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BF4-13AB-48D3-AD0D-F85CD31E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73E-366E-4693-B3C9-4FCFE319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F070-7B97-4757-AC6A-AD4089D3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72C5-A091-4AF5-A221-522FDC1D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0218-BCB1-48C9-A18D-897742FE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7508-FDB0-4102-9818-2014F68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B0BC-C784-4E1A-BC26-58A65B72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EDB-F227-40DD-AB03-C2759A8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4F66-ACD0-4D9C-945F-5F23832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36C-FDEE-49D5-9428-6AC00004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6585-4E05-46C3-BC06-0D93F34B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B204-CEBE-46E8-A91D-E629E4C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CC20-2312-4D70-AFC2-F2D62BD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58E8-9710-445B-9463-E6E77D8D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CC79-AD6F-4F96-802E-0F96365A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0AE-EDF8-46EA-9768-E3AB4A30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03A-77FA-41AB-A57B-9EED9205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BD9-3B53-49EA-A638-D94B03B2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022-7909-40DE-9842-6AC42BCF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A0F-14B5-4E39-8E4C-A1C0EDC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FE7-0049-4830-9D47-9EC4632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636-E5F5-497A-A75F-66E6AA4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EB8E-2AFE-4629-9BD1-94634DF60E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40D3-6E65-4176-A5A6-914B90D2FA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a.org/ala/acrl/acrlstandards/guidelinescurriculum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bbatical Repor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4 Centers/Collections/Locations/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sponsible Uni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2748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Co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Ferguson Center for Technology-Aided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12800"/>
            <a:ext cx="403848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Jane Mitchell Multimedia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rien Sp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43480" y="4114800"/>
            <a:ext cx="26481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quinas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460520"/>
            <a:ext cx="40384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. Pleas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57200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ordia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27480" y="10666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038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sila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ta Kohrma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ndale, Michi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Childhood Manipulativ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is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13200" y="114300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dergarten through Twelve Grade Curriculum Resource Center (KCR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ibrary and Tech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07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grov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s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he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Education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101448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ver Education Technology and Curriculum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ena Height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Education Resources and Materials Production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6478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troit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196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ilities and Staffing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aboratories and Materials Preparation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- 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located in Library but responsible unit not yet det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23623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Picture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 boxes in clos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yne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320" y="914040"/>
            <a:ext cx="4038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 of Institution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 = Publi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4 = Religious Affilia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5 – Library (63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7 – Education (29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Other Academic Dept. (4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TBD (4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 – Area or ranges within Libr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Separate area within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Separate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ing &amp; T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 – Able to teach in or in nea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roximity to the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7 – Provided tou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Ranges of various am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6 Centers (includes work areas &amp; la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00 – Central Michig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0 – Saginaw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89 – 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60 – 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46 – 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90 – 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45 – 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00 – Lake Superior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72 – Univ. of Michigan – 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37 – Eastern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09 – Siena Heights Univers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68 – 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00 – 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 – Marygrove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61 – Adria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ala.org/ala/acrl/acrlstandards/guidelinescurriculum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of the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3M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heckpoint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Gaylord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ID Security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rovided no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elv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Regular shelving &amp; deep shelving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ld oversized or manipulative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Bookc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Deep shelving to contain plast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ers holding manipul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torage for older or little us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with Floor Outlets; 2 want Floor Outle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with Wall Out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–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pier Mach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vided access to a copier machine either within the Center or near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vided color cop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copiers used co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copiers used copier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copiers used coins and/or c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provided free copying or paid by student course fe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ould bill a student’s ac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- Mean number of hours of service or access to the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day: 5.3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12.64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12.4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12.45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12.3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8.9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day: 5.4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otal Mean Number of Hours of Service or Access Per Wee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76 hours – Mean weekday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42 hours – Mean weekend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– Total mean number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M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– K12 Library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K12 Teacher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2 - PhD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MA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s’ Off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In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 – Near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Other 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Librarian (1 half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Center’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– Library Catalog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Split cataloging between Coordinators &amp; Library Catalo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 cataloging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Designated staff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– No specifically designated Sta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sed Library Circulati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Cle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book Collections (Txb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Shared with Libr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1 (Collection Develop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st - part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nder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17 under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3 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 Nu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17 directors, only 3 are full time at the Curriculum Cen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ofessionals are par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paraprofessionals are full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paraprofessionals are part time at one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een share duties with the libr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total of student workers is 8.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Develo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 – 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ors –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ogers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ical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cal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Con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UL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E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CTE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RL –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LOEX, MRA, IRA, Assoc. of Christian Librarians, Assoc. of Educ. Communications &amp; Technology, EC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Al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50 to $1,000 with grant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5181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berge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, MI 494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800"/>
            </a:b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ala.org/ala/acrl/acrlstandards/guidelinescurriculum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Expectati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– enormous var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 Production / Education Equipment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Lab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Collection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ollection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 of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ol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ab or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Laborato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s Preparation Lab or Cent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&amp; Learning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Resources an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Materials, Microforms, and Media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Resource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or Collectio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Centers in a designated space or be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built in a designat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Collections located as part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ies’ col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ollection in Education Faculty’s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16:33Z</dcterms:created>
  <dc:creator>Rita</dc:creator>
  <dc:description/>
  <dc:language>en-US</dc:language>
  <cp:lastModifiedBy>kohrmanr</cp:lastModifiedBy>
  <dcterms:modified xsi:type="dcterms:W3CDTF">2007-12-19T16:52:38Z</dcterms:modified>
  <cp:revision>147</cp:revision>
  <dc:subject/>
  <dc:title>Curriculum Materials Centers in the State of Michigan</dc:title>
</cp:coreProperties>
</file>