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EF51E-3EE6-435C-AB2B-E71D05ACB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4B502-53DB-4897-9332-231337525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7E902-D517-4335-AC1F-DB7A403D0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6F70D-9AEE-41C7-9766-65AD99AD5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9F8EA-AFEB-4141-9A3F-AF135E02E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5CA7E-126C-4755-A07D-8B49C54F2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A88A6-13DD-4A7A-809B-87B0071D5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7B46D-E0A2-47A6-90B7-CE1264F22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30744-6954-43CD-9AB2-C909E5001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7EF39-3A23-4F3B-89D1-BBE95006E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19622-BF73-40BF-94AD-A176D9B7F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DC14B-A2F1-49D0-B28A-D2E83A2B9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BD3C3-ED3C-42BB-946B-3230FA252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6FD73-191E-4FB5-B27B-77D01A40F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F669B-07BC-436B-9F2F-23D6A4ADB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C58BF-8DC8-453C-904C-C9AFCAD00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B67BC-4450-43F5-933E-835958A4C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F5A6C-06EA-494A-9E0E-E5806ACA6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79335-DE8F-468C-90CC-85E85C4D8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0AA2A-1799-433B-AB0E-EAE9DAF79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D50F4-2FBD-4247-928A-F1ABEB9C1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4A96E-60E0-4DBC-8739-96961A10D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FAC1F-4B45-4AD5-AB74-FBE9ADD62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7F8C9-55F7-454E-B95C-8C6A44567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CEBA9-6333-4322-A37D-C80716C70F5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9B3BA-73B8-48AD-861F-2F3E460C802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8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8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ala.org/ala/acrl/acrlstandards/guidelinescurriculum.htm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352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Curriculum Materials Centers in the State of Michigan</a:t>
            </a: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Sabbatical Report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24 Centers/Collections/Locations/</a:t>
            </a:r>
            <a:br>
              <a:rPr sz="3600"/>
            </a:b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Responsible Units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ducation Curriculum Cen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drian Colleg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dria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pt. of Educ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5127480" y="1981080"/>
            <a:ext cx="307836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038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Under Construction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/Ferguson Center for Technology-Aided Teach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lbion Colleg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lbio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pt. of Educ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4648320" y="1536840"/>
            <a:ext cx="4038480" cy="364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669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urriculum and Juvenile Collec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lma Colleg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lm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ibra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4648320" y="1612800"/>
            <a:ext cx="4038480" cy="349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192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3848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ry Jane Mitchell Multimedia Cen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drews Univers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errien Spring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ibra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4724280" y="1295280"/>
            <a:ext cx="3962520" cy="266724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5343480" y="4114800"/>
            <a:ext cx="2648160" cy="198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4038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urriculum and Juvenile Collec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quinas Colleg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rand Rapi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ibrary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4572000" y="1460520"/>
            <a:ext cx="4038480" cy="387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054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urriculum Cen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alvin Colleg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rand Rapi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structional Resource Cen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4648320" y="1536840"/>
            <a:ext cx="4038480" cy="302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1054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4038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structional Materials Cen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entral Michigan Univers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t. Pleasa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ducation and Human Servic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4267080" y="1219320"/>
            <a:ext cx="4572000" cy="3911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urriculum and Juvenile Collec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cordia Univers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n Arbo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ibra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5127480" y="1066680"/>
            <a:ext cx="307836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urriculum Materials Cen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rnerstone Univers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rand Rapi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ibra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4648320" y="1219320"/>
            <a:ext cx="4038480" cy="3416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384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ducational Resource Cen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astern Michigan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nivers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Ypsilant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llege of Educ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4648320" y="1143000"/>
            <a:ext cx="4038480" cy="3911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120" y="1371600"/>
            <a:ext cx="76964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Rita Kohrman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295280" y="2895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ducation Resources Libraria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rand Valley State Univers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llendale, Michiga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181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38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arly Childhood Manipulative Collec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erris State Univers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ig Rapi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ibra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4813200" y="1143000"/>
            <a:ext cx="3706920" cy="495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33520" y="1436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indergarten through Twelve Grade Curriculum Resource Center (KCRC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rand Valley State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nivers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llenda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ibra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4648320" y="1371600"/>
            <a:ext cx="4038480" cy="327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054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urriculum Library and Tech Lab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ope Colleg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olla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ibra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5105520" y="1219320"/>
            <a:ext cx="307800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40384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ducation Libra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alamazoo Colleg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alamazoo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pt. of Educ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4572000" y="1295280"/>
            <a:ext cx="4038480" cy="302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181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urriculum and Juvenile Collec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rygrove Colleg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troi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ibra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4648320" y="176220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38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ducational Resources Lab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akland Univers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oches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chool of Educ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4648320" y="1295280"/>
            <a:ext cx="4038480" cy="379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038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gional Education Resource Cen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aginaw Valley State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nivers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agina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llege of Educ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4572000" y="1014480"/>
            <a:ext cx="4038480" cy="406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81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4495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arver Education Technology and Curriculum Lab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ena Heights Univers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dria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ibra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4648320" y="1765440"/>
            <a:ext cx="4038480" cy="302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192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495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eacher Education Resources and Materials Production Lab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pring Arbor Univers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pring Arbo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ibra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5334120" y="1371600"/>
            <a:ext cx="2666880" cy="236232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3"/>
          <a:stretch/>
        </p:blipFill>
        <p:spPr>
          <a:xfrm>
            <a:off x="5334120" y="3809880"/>
            <a:ext cx="2647800" cy="198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054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28240" y="990720"/>
            <a:ext cx="4419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urriculum and Juvenile Collec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niversity of Detroit –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rc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troi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ibra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4724280" y="990720"/>
            <a:ext cx="3819600" cy="510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19810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Part I</a:t>
            </a:r>
            <a:br>
              <a:rPr sz="2800"/>
            </a:b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Facilities and Staffing</a:t>
            </a:r>
            <a:br>
              <a:rPr sz="3600"/>
            </a:b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794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urriculum Laboratories and Materials Preparation Cen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niversity of Michigan –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arbor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arbor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chool of Educ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648320" y="1981080"/>
            <a:ext cx="403848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4876920" y="1676520"/>
            <a:ext cx="3657600" cy="358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4038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Under  Construc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niversity of Michigan - Fli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li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o be located in Library but responsible unit not yet determin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4648320" y="1066680"/>
            <a:ext cx="4038480" cy="41148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5410080" y="2362320"/>
            <a:ext cx="2590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No Picture Availa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(In boxes in closet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-93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0" y="1371240"/>
            <a:ext cx="44956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urriculum and Juvenile Collec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ayne State Univers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troi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ibra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4648320" y="990720"/>
            <a:ext cx="4038480" cy="495288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320" y="914040"/>
            <a:ext cx="4038840" cy="685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41911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ducation Libra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estern Michigan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nivers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alamazo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ibra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4724280" y="1219320"/>
            <a:ext cx="4038840" cy="302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ype of Institutions: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10 = Public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14 = Religious Affiliated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305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Responsible Units: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15 – Library (63%)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7 – Education (29%)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1 – Other Academic Dept. (4%)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1 – TBD (4%)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Location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14 – Area or ranges within Librar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8 – Separate area within Educatio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building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2 – Separate building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eaching &amp; Tour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9 – Able to teach in or in near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proximity to the Cente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17 – Provided tour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quare Footag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9 – Ranges of various amoun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p 6 Centers (includes work areas &amp; lab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9700 – Central Michiga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7370 – Saginaw Valley State Univers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6189 – Oakland Univers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5760 – Calvin Colleg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5746 – Andrews Univers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3590 – Hope Colleg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quare Footag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645 – Spring Arbor Univers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500 – Lake Superior State Univers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472 – Univ. of Michigan – Dearbor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137 – Eastern Michigan Univers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909 – Siena Heights University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768 – Grand Valley State Univers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400 – Cornerstone Univers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864 – Marygrove Colleg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561 – Adrian Colleg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Definitio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Curriculum material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are educational resources that provide curriculum and instructional experiences for P-12 students. These materials are used by educators to develop curricula and lesson plans and may also be used in actual instructional situations with P-12 students. These materials also provide information for those doing research.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ACRL Standards &amp; Guidelines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www.ala.org/ala/acrl/acrlstandards/guidelinescurriculum.htm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ecurity of the Collectio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5 – 3M Secur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 – Checkpoint Secur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 – Gaylord Secur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 – ID Security System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4 – Provided no secur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 – TB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helving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0912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1 – Regular shelving &amp; deep shelving to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hold oversized or manipulative item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 – Bookcas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 – Deep shelving to contain plastic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containers holding manipulativ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 – Storage for older or little used item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Outlet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5 with Floor Outlets; 2 want Floor Outlet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4 with Wall Outle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2 TB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8 – Enoug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7 – Mor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7 – N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4648320" y="2527200"/>
            <a:ext cx="4038480" cy="302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Access to Copier Machin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ll provided access to a copier machine either within the Center or near b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6 provided color copi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2 copiers used coi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1 copiers used copier car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6 copiers used coins and/or card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4 provided free copying or paid by student course fee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 would bill a student’s accou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 TB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Hour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61.18 hours - Mean number of hours of service or access to the collec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unday: 5.36 ho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nday: 12.64 ho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uesday: 12.46 ho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ednesday: 12.45 ho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ursday: 12.37 ho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riday: 8.9 ho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aturday: 5.47 ho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Total Mean Number of Hours of Service or Access Per Week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1.76 hours – Mean weekday hou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5.42 hours – Mean weekend hou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61.18 hours – Total mean number of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hou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“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Director”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47920" y="1981080"/>
            <a:ext cx="72388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7 – M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 – K12 Library Certific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7 – K12 Teacher Certific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ther – 2 - PhD in Education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–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 - BA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–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 - MA in Education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 – TB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Directors’ Offic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590920" y="2057040"/>
            <a:ext cx="50292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8 – In Cente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11 – Near Cente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2 – Other location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3 – N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taff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7 – Librarian (1 half time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7 – Coordinat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taloger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 – 2 Part time at one facility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4 – Center’s Libraria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4 – Library Cataloger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 – Split cataloging between Coordinators &amp; Library Cataloger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 – TB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 – No cataloging necessa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taff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ircul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 – Designated staff memb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0 – No specifically designated Staff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1 – Used Library Circulation Staff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 – TB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 – Cleric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ypes of Collection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extbook Collections (Txbk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xbk with Manipulative Collectio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xbk with Juvenile Collections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xbk with Special Collection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xbk with Video Collection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xbk with Media Produc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nd any combination of the above!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taff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echnical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3 – Shared with Library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 – 2 Part time at one facility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ther – 1 (Collection Development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pecialist - part time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taff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uden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1 – Undergraduate studen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anging from 2 to 17 undergraduate studen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 – Graduate studen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anging from 2 to 3 graduate studen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taff Number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ut of 17 directors, only 3 are full time at the Curriculum Center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wo professionals are part tim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ine paraprofessionals are full tim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 paraprofessionals are part time at one facilit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ighteen share duties with the librari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ean total of student workers is 8.75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Professional Developmen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2971440" y="1600200"/>
            <a:ext cx="5715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ibrarians – 1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ordinators – 5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atalogers – 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irculation – 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erical – 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echnical – 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udents – 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ther – 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Professional Conferenc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LA – 17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CUL – 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ME – 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ACTE – 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LA – 8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CRL – 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SCD – 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ther – LOEX, MRA, IRA, Assoc. of Christian Librarians, Assoc. of Educ. Communications &amp; Technology, ECI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Professional Allocation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218960" y="1981080"/>
            <a:ext cx="6933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$50 to $1,000 with grants availab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s need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ontact informatio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2209680" y="1981080"/>
            <a:ext cx="518184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ita Kohrma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ducation Resources Libraria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Zumberge Libra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rand Valley State Univers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llendale, MI 4940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616.331.262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ohrmanr@gvsu.ed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Definitio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Curriculum Materials Center (CMC)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refers to a physical location of a curriculum materials collection. Curriculum materials centers are often housed in a main campus library, a branch library building, or in an academic building housing the campus education academic programs.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51960" indent="-221400">
              <a:spcBef>
                <a:spcPts val="45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CRL Standards &amp; Guidelines</a:t>
            </a:r>
            <a:br>
              <a:rPr sz="1800"/>
            </a:br>
            <a:r>
              <a:rPr b="0" lang="en-US" sz="1800" spc="-1" strike="noStrike" u="sng">
                <a:solidFill>
                  <a:srgbClr val="00ccff"/>
                </a:solidFill>
                <a:uFillTx/>
                <a:latin typeface="Tahoma"/>
                <a:hlinkClick r:id="rId2"/>
              </a:rPr>
              <a:t>www.ala.org/ala/acrl/acrlstandards/guidelinescurriculum.htm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Problem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y “Expectations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urriculum Materials – enormous variety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dia Production / Education Equipment – some have; some don’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echnology Labs – some have; some don’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Juvenile Collection – some have; some don’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pecial Collections – some have; some don’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Names of Center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4648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urriculum Cente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urriculum Material(s) Cente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urriculum Resource(s) Cente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urriculum Collec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urriculum Laborator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urriculum Librar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nstructional Cente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nstructional Material(s) Cente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nstructional Media Cente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nstructional Resource(s) Cente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ducation Lab or Laborator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ducation Librar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ducation Resource(s) Cente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48320" y="9907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Learning Laboratory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aterials Preparation Lab or Center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edia Cente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eaching &amp; Learning Cente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eacher Education Cente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eacher Education Resources and Servic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eacher Materials, Microforms, and Media Departmen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eacher Resource Cente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enter or Collection?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5 – Centers in a designated space or being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built in a designated spa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8 – Collections located as part of the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libraries’ collection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 – Collection in Education Faculty’s Offi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1T18:16:33Z</dcterms:created>
  <dc:creator>Rita</dc:creator>
  <dc:description/>
  <dc:language>en-US</dc:language>
  <cp:lastModifiedBy>kohrmanr</cp:lastModifiedBy>
  <dcterms:modified xsi:type="dcterms:W3CDTF">2007-12-19T16:52:38Z</dcterms:modified>
  <cp:revision>147</cp:revision>
  <dc:subject/>
  <dc:title>Curriculum Materials Centers in the State of Michigan</dc:title>
</cp:coreProperties>
</file>