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D96-478D-4DBF-9367-B0649657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BB1-06A8-4068-B87B-0F0BCAE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9D8-F077-4EB2-8897-ADD046C9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C66-B500-4C39-B858-873C7469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4E39-054C-47AC-AFE5-B2F7B176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36C-FE44-49A8-828D-A615F34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167A-EACC-4F1B-903C-B7D120E0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E3F4-8100-4AB1-B46F-73CFFA25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A4C8-D678-4583-BBE4-83C1847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BEE0-2749-4881-8ADD-AB991E5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F34-2AB2-4750-8C43-B444831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291-ABA8-4469-9ECA-7BD4AC8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B6B8-677F-41A3-8E31-BC015C2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B1E8-94EB-42BD-93E8-0971251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FF56-7B71-4A04-A0AE-0C60C153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444F-55D0-4255-B979-3861093E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9ABA-7CDB-4B80-B39B-E79A881A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614-35B9-4904-9175-004F893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B9A-8DEB-4FFC-962E-54352E4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FF6-654E-4FAA-B839-94F137ED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AA9-1718-459C-8450-50F642A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B02-25C5-4E8F-9036-109E576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93D-B5CF-405F-97D8-A40F2E38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48E-9D66-4356-8531-33D0546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DFD-A03C-48FF-AD55-54D812E16B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94AB-162D-41EB-B1A3-49EDF801E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a.org/ala/acrl/acrlstandards/guidelinescurriculum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bbatical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4 Centers/Collections/Locations/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sponsible Uni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2748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Co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Ferguson Center for Technology-Aided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12800"/>
            <a:ext cx="403848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Jane Mitchell Multimedia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rien Sp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43480" y="4114800"/>
            <a:ext cx="2648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quinas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460520"/>
            <a:ext cx="40384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. Pleas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57200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27480" y="10666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38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sila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ta Kohrma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ndale, Michi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Childhood Manipulativ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is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13200" y="114300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dergarten through Twelve Grade Curriculum Resource Center (KC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ibrary and Tech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07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grov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s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he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Education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101448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ver Education Technology and Curriculum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ena Height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Education Resources and Materials Production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6478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troit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196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ilities and Staffing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aboratories and Materials Preparation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- 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located in Library but responsible unit not yet det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3623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Pictur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 boxes in clos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ne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320" y="914040"/>
            <a:ext cx="4038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 of Institution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 = Publi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4 = Religious Affili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5 – Library (63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7 – Education (29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Other Academic Dept. (4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TBD (4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 – Area or ranges within Libr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Separate area within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Separate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ing &amp; T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 – Able to teach in or in nea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ximity to the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7 – Provided tou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Ranges of various am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6 Centers (includes work areas &amp; la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00 – Central Michig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0 – Saginaw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89 – 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60 – 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46 – 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90 – 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45 – 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0 – Lake Superior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72 – Univ. of Michigan – 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37 – Eastern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09 – Siena Heights Univers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68 – 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– 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 – Marygrove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61 – Adria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ala.org/ala/acrl/acrlstandards/guidelinescurriculum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of the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3M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heckpoint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Gaylor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ID Security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rovided no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elv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Regular shelving &amp; deep shelving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ld oversized or manipulative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Bookc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Deep shelving to contain plast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ers holding manipul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torage for older or little us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with Floor Outlets; 2 want Floor Outle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with Wall Out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–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pier Mach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vided access to a copier machine either within the Center or near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vided color cop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copiers used co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copiers used copier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copiers used coins and/or c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provided free copying or paid by student course fe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ould bill a student’s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- Mean number of hours of service or access to the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day: 5.3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12.6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12.4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12.45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12.3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8.9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day: 5.4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otal Mean Number of Hours of Service or Access Per We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76 hours – Mean weekday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42 hours – Mean weekend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– Total mean number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M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– K12 Library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K12 Teacher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2 - PhD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MA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s’ Off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In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 – Near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Other 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Librarian (1 half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Center’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– Library Catalog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Split cataloging between Coordinators &amp; Library Catalo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 cataloging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Designated staff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– No specifically designated Sta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sed Library Circulati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Cle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book Collections (Txb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Shared with Libr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1 (Collection Develop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st - part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nder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17 under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3 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 Nu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17 directors, only 3 are full time at the Curriculum Cen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ofessionals are par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paraprofessionals are full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paraprofessionals are part time at one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een share duties with the libr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total of student workers is 8.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Develo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 – 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ors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ogers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ical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Con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UL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E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CTE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RL –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LOEX, MRA, IRA, Assoc. of Christian Librarians, Assoc. of Educ. Communications &amp; Technology, EC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Al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50 to $1,000 with grant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181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berge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, MI 494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800"/>
            </a:b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la.org/ala/acrl/acrlstandards/guidelinescurriculum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Expecta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– enormous var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Production / Education Equipment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Lab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Collection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ollection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 of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ol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ab or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Laborato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s Preparation Lab or Cent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&amp; Learning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Resources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Materials, Microforms, and Media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Resource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or Collectio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Centers in a designated space or be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built in a designat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Collections located as part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ies’ col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ollection in Education Faculty’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16:33Z</dcterms:created>
  <dc:creator>Rita</dc:creator>
  <dc:description/>
  <dc:language>en-US</dc:language>
  <cp:lastModifiedBy>kohrmanr</cp:lastModifiedBy>
  <dcterms:modified xsi:type="dcterms:W3CDTF">2007-12-19T16:52:38Z</dcterms:modified>
  <cp:revision>147</cp:revision>
  <dc:subject/>
  <dc:title>Curriculum Materials Centers in the State of Michigan</dc:title>
</cp:coreProperties>
</file>