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B2D-3469-4C20-AB91-3EAAAED9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6D6-B719-4D6B-B581-681CC81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63C-3206-488F-A834-5B38CD4D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05D-7976-4B80-8205-36CC2055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C64A-CA80-4097-B7B6-73FA85D3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5D3-E6C4-4B6D-B794-1084C3F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E143-B93F-49B2-96B2-55D7339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09DE-ABDD-4C33-8F9D-5FE136D4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A39C-7B9B-4B76-8C6C-8BEFFDC0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4C82-E978-4285-98D2-81B2ED0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5604-1134-43AD-B5F5-FD61A24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D01-761D-4F2A-9627-0103B5A4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FBA7-6D16-4009-8237-5ED5391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CFF2-434C-4AD3-AD52-C90B5A8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FC6B-C590-4E4D-B2B5-C70DCB09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502A-1680-4038-892F-DA43E1EE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DA41-6A56-49FC-90B9-FF2E9645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8C3-FBAF-443C-AA20-AAE58AB5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B3A-88CA-44FC-BA7D-E4F4CF23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7E5-E9D7-43E4-9DB3-851E2F09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26D-70B2-41A5-A078-A43E6F7C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07C-EA5E-40C9-867A-8E9FEBA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13B-228E-4C73-BEC9-0035F6E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B49-AB13-4389-8D84-9911E5A7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AEA-A8FB-4713-ACBD-70A2D7B2AC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E25-E08E-4989-A80F-197A6696D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a.org/ala/acrl/acrlstandards/guidelinescurriculum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bbatical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4 Centers/Collections/Locations/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sponsible Uni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2748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Co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Ferguson Center for Technology-Aided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12800"/>
            <a:ext cx="403848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Jane Mitchell Multimedia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rien Sp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43480" y="4114800"/>
            <a:ext cx="2648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quinas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460520"/>
            <a:ext cx="40384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. Pleas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57200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27480" y="10666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38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sila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ta Kohrma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ndale, Michi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Childhood Manipulativ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is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13200" y="114300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dergarten through Twelve Grade Curriculum Resource Center (KC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ibrary and Tech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07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grov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s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he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Education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101448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ver Education Technology and Curriculum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ena Height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Education Resources and Materials Production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6478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troit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196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ilities and Staffing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aboratories and Materials Preparation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- 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located in Library but responsible unit not yet det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3623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Pictur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 boxes in clos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ne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320" y="914040"/>
            <a:ext cx="4038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 of Institution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 = Publi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4 = Religious Affili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5 – Library (63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7 – Education (29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Other Academic Dept. (4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TBD (4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 – Area or ranges within Libr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Separate area within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Separate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ing &amp; T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 – Able to teach in or in nea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ximity to the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7 – Provided tou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Ranges of various am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6 Centers (includes work areas &amp; la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00 – Central Michig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0 – Saginaw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89 – 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60 – 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46 – 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90 – 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45 – 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0 – Lake Superior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72 – Univ. of Michigan – 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37 – Eastern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09 – Siena Heights Univers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68 – 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– 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 – Marygrove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61 – Adria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ala.org/ala/acrl/acrlstandards/guidelinescurriculum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of the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3M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heckpoint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Gaylor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ID Security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rovided no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elv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Regular shelving &amp; deep shelving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ld oversized or manipulative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Bookc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Deep shelving to contain plast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ers holding manipul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torage for older or little us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with Floor Outlets; 2 want Floor Outle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with Wall Out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–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pier Mach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vided access to a copier machine either within the Center or near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vided color cop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copiers used co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copiers used copier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copiers used coins and/or c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provided free copying or paid by student course fe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ould bill a student’s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- Mean number of hours of service or access to the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day: 5.3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12.6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12.4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12.45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12.3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8.9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day: 5.4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otal Mean Number of Hours of Service or Access Per We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76 hours – Mean weekday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42 hours – Mean weekend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– Total mean number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M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– K12 Library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K12 Teacher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2 - PhD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MA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s’ Off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In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 – Near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Other 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Librarian (1 half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Center’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– Library Catalog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Split cataloging between Coordinators &amp; Library Catalo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 cataloging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Designated staff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– No specifically designated Sta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sed Library Circulati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Cle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book Collections (Txb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Shared with Libr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1 (Collection Develop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st - part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nder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17 under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3 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 Nu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17 directors, only 3 are full time at the Curriculum Cen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ofessionals are par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paraprofessionals are full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paraprofessionals are part time at one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een share duties with the libr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total of student workers is 8.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Develo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 – 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ors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ogers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ical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Con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UL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E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CTE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RL –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LOEX, MRA, IRA, Assoc. of Christian Librarians, Assoc. of Educ. Communications &amp; Technology, EC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Al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50 to $1,000 with grant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181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berge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, MI 494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800"/>
            </a:b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la.org/ala/acrl/acrlstandards/guidelinescurriculum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Expecta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– enormous var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Production / Education Equipment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Lab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Collection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ollection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 of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ol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ab or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Laborato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s Preparation Lab or Cent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&amp; Learning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Resources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Materials, Microforms, and Media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Resource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or Collectio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Centers in a designated space or be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built in a designat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Collections located as part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ies’ col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ollection in Education Faculty’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16:33Z</dcterms:created>
  <dc:creator>Rita</dc:creator>
  <dc:description/>
  <dc:language>en-US</dc:language>
  <cp:lastModifiedBy>kohrmanr</cp:lastModifiedBy>
  <dcterms:modified xsi:type="dcterms:W3CDTF">2007-12-19T16:52:38Z</dcterms:modified>
  <cp:revision>147</cp:revision>
  <dc:subject/>
  <dc:title>Curriculum Materials Centers in the State of Michigan</dc:title>
</cp:coreProperties>
</file>