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23C-3F4E-4E75-9EC3-91875B31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AE49-04E5-409E-BDD7-0DB9EEF1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9F9-E101-4F58-99F5-5951FDC1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03C-3FA6-4038-8A78-DE7B1C15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8641-0836-4318-A654-D11F0F9E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C704-BD53-4BC9-8506-8BDE68E7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62D4-6FFA-4B12-AD99-881CE964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CF03-81D4-449B-BDA0-0D3D2510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39D4-1851-459E-A0A4-580E53FA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7DF9-A523-4808-B5CA-924FBA60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7953-7A78-4DD5-8529-7371AAAA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DB7-61A7-4631-B301-1872BDB5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13A4-B8D7-40FD-B8B4-C13474EE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B2C5-B0AA-48CD-A106-A906FBA7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0C60-C891-4439-9DD4-DC84E9F7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9D86-6EC5-4093-9243-71714358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A6F5-4484-4B81-BDB0-ECB9152B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CC0-457E-42F0-B57F-35B6EFFF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162-CBBD-4D63-997F-682D7279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446-B530-413C-9587-FEB4807D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926-90C4-4E9E-A184-6B5CE4BB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86D-03BD-4733-82B9-8753C9A1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A71-8FEF-4642-98AC-3E960181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E1E-8567-426E-B32B-C5424A0F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E318-D20E-427A-9887-AAE9F0CA7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0C0C-2644-4E04-BF68-AB4122111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urriculum Materials Centers in the State of Michig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dgets, Collections, and Ser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lection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–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No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Policies currently being develo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Policies incorporated with t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y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Policies to be determ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cedure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 – Policies in pl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– Policies incorporated with the ma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y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– No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Policies to be determ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RL Guidel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– Not aware of the ACRL Guide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Aware of the ACRL Guide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Not applic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library Lo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11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lements/Activity Boo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-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ppe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R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1 Center housed the ERIC microfiche coll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se magazines whose intended audience is PK-12 students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3 – Have PK-12 magazines in Cent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– Allow magazines to check ou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 – Keep backfiles of the magaz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yr/2 yr/3 yr/5 yr/complete ru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 – House some professional magaz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Center has 71 PK-12 or professional magazin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fts from Facul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br>
              <a:rPr sz="44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(a few of the titles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by Bu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ppy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op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l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ildren’s Playm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ru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cad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bo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box Bookb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bblest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chigan History for K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ed Newslet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ck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.Geographic for K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ve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yss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ger Ri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pping St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ne S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eet 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for K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l Street Classroom E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ooboo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ecial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bion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mbios Juveni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drews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niversity’s Cassette Tape Collection, Map Collection, Vertical &amp; Story F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vin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ertical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entral Michigan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ichigan Textbook Collection, Michigan Schools in the Midd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ope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llege’s Cassette Tap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rygrove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ducation Pea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akland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llection of Award Winning Juvenile Books, Graphic Novel Collection, Children's Tradebook Examination Cen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Responsible Units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5 – Librar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7 – Educatio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– Other Academic Dept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- TB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ecial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aginaw Valley State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S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ction, Center for Economic Education, Michigan Special Education Arch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iena Heights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t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ring Arbor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t and Picture Fi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yne State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ildred Jeffrey Collection of Peace &amp; Conflict Resolution, Millicent A. Wills Collection of Urban Ethnic Materials, Ramsey Collection of Children’s Lit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Education Tes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ETS (Education Testing Servi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in the 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in the Mai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- Specialized Tests (i.e.-Peabod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Older Specialized Tests in Center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students to check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pstones, Projects, The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Senior Capst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Master’s Projects or The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Kept in a separate area in the library bu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near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Not catalo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In the process of moving to differe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location nearer to the College of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pstones, Projects, The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alog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– Cataloger at Mai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– Center’s Dir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 Head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– Library of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S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ERIC Descrip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TB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ideo/DVD Collection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se materials used for profes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ducation students 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als education students us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lesson pl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– Have education videos/DV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Located in Cen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– Located in Libr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Videos/DVDs located elsewhere 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mp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Do not have videos/DV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 Reservation Syst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- In-house manual booking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- Used online catalog reserva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Uses both manual and electroni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quipment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achines used to assist in lesson planning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- Provide some form of media servic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AS PART of 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Library provides media servi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Media services are either in close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ximity to the Center or elsewhe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camp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- Do not have any equi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f-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nter Budg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aries: Not enough information provid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scer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lities: Information too complex t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al Fu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Academic Units/Programs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due Fines, Services –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nding Machine -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r Pr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Colors -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Color Printer -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Cu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ucut -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ison - 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eling Machine -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minator - 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t Press -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aque Projector -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writer 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a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Students/Faculty only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Student, Faculty, or Staff –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le to Any Patron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vailable to Non-Affiliated Patron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mination by Staff person only -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services performed by Staff person only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chnology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echnology (computers, software, digital equipment, cameras, etc.) used in lesson planning or portfolio development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provide technology services as part of 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rovide technology services near to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rovides technology services within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pe Recorder – 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s - 1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e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ner -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de Projector –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pod -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 Camera -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corder -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aroid Camera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 Check O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era – 1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pe Recorder -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de Projector –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pod -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 Camera -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corder –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s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D Player - 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aroid Camera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r Acces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 have computers in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have a computer lab as part of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have a computer classroom near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71440" y="1981080"/>
            <a:ext cx="3886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C-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 –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C &amp; Mac -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ed -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reless - 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ag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Use -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s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folio Development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ations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-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 Review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ftwar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oftware used in lesson planning or for evaluation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provide education software AS PART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recently eliminated all education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ftware from its col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lection Budg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one Center breaks down the budget by resource typ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Textbooks, Hands-On/Manipulatives, Videos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thers either do NOT have a budget or purchase resources from a general collection budg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collections rely exclusively on gif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ft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b P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een curriculum centers have web p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ssion State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 have mission statements on their web p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106668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los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University of Michigan – Ann Arb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6629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y have on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o will it serv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will it hol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re will it be locate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RL Standards &amp; Guidelines</a:t>
            </a:r>
            <a:br>
              <a:rPr sz="44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www.ala.org/ala/acrl/acrlstandards/guidelinescurriculum.htm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Guidelines for Curriculum Materials Cen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Approved by ACRL and ALA, January 2003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urriculum materials centers are essential to the instructional and research needs of students and faculty in programs preparing educators for P-12 schools. These guidelines describe essential elements of administration, services, and collections for curriculum materials centers in all university and college setting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guidelines are intended for administrators at all levels of post-secondary education, particularly education deans or department chairs; library deans or directors; librarians responsible for curriculum materials centers; and accrediting and licensure agencie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FINITION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P-12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preschool through twelfth grade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urriculum material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are educational resources that provide curriculum and instructional experiences for P-12 students. These materials are used by educators to develop curricula and lesson plans and may also be used in actual instructional situations with P-12 students. These materials also provide information for those doing research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urriculum Materials Center (CMC)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a physical location of a curriculum materials collection. Curriculum materials centers are often housed in a main campus library, a branch library building, or in an academic building housing the campus education academic programs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MC user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are education students and faculty, and may also include P-12 educators, other students, and community members as defined by the CMC’s mission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Director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the librarian who has primary responsibility for the CMC; its facilities, administration, collection, personnel, and serv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95280" y="16761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ta Kohr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elcase Lib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Rapids, MI 495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6.331.26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hrmanr@gvsu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llection Budget Rang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ges of $0 to $32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owment – 1 ($1,000/y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Needed –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ent upon Student Fees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BD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fts from Faculty or Textbook Compan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s of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 Collections (Txbk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 with Supplements/Activity Boo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Manipulativ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Juvenile Collection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Special Coll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Video Coll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Media Pro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ny combination of the above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Collections</a:t>
            </a:r>
            <a:br>
              <a:rPr sz="48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(2 Collections TBD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s/Supplements – 22 (3 rely on gif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-On – 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s – 1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 –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ppets – 1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s –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 –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(Audio - 2; Vertical File - 3; Tests - 2;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Guides - 2; Special -1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ification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 - Library of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used LC for Professional Materials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- Dew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in sch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used for the Juvenile Collection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- In-House for all or part of their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- Accessed by Library Online Catalo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Juvenile Collection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Professional Material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- May be accessed through MEL C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21:21:21Z</dcterms:created>
  <dc:creator>Rita</dc:creator>
  <dc:description/>
  <dc:language>en-US</dc:language>
  <cp:lastModifiedBy>kohrmanr</cp:lastModifiedBy>
  <dcterms:modified xsi:type="dcterms:W3CDTF">2007-12-19T16:57:24Z</dcterms:modified>
  <cp:revision>167</cp:revision>
  <dc:subject/>
  <dc:title>Curriculum Materials Centers in the State of Michigan</dc:title>
</cp:coreProperties>
</file>