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1956-90E0-4CAA-BF04-AAAF36F48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3DFA-C276-4BD7-BE1E-21DADA18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B27B-0F9F-4470-8D44-E1573D411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A2EC-92E4-4544-8B45-9ED37465C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DD2B-A15C-4DFC-9FA1-F4DBB41D8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5FDFD-D83B-463B-9734-DA230101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ADF26-7A44-4399-8554-7AA0BA1B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645A-D47E-4DD0-A623-A7DFD04A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5AD3-C4F0-47E4-90DB-A9A4784F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BFB3-A195-49C8-913F-A4CA0ABC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AFDB4-5EB5-45DF-BC4E-F2CF929F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E41C-2888-4450-952E-05B317B7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81A8C-E60C-4635-9DD1-17A91B2B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49EA-6BA3-47AD-9D96-D7DE3422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00EB2-C2AC-4F15-9111-D24A15AE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5F7C-CA7C-4046-9701-0C084BD9A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EC6D-013E-43BF-80B1-E910969EB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1F65-DD3E-4BC8-A2ED-BE74BB82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69BB-F05E-4D18-8ADF-E176E4FD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F5C5-5852-4827-9A2D-400367CE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18C1-2AF0-4211-9732-75A661E3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5B32-A968-4BA0-8D32-C7D96F21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CAE2-EE2C-4C80-AF4A-71C70236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9453-4648-41C2-8796-24D16E9E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D7C3-F8FE-4672-92E9-7316E5B687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9FC8-93E9-4913-970C-98C3F14084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urriculum Materials Centers in the State of Michiga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t 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dgets, Collections, and Servi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llection Polic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 – Policies in pl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 – No policies in pl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– Policies currently being develop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– Policies incorporated with th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i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library’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– Policies to be determin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cedure Polic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0 – Policies in pla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 – Policies incorporated with the mai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library’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 – No policies in pl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– Policies to be determin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CRL Guideli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6 – Not aware of the ACRL Guideli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 – Aware of the ACRL Guideli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- Not applic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terlibrary Loa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47920" y="1447920"/>
            <a:ext cx="6858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xtbook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11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plements/Activity Book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nds-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p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er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ppet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ftwar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deo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6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RIC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ly 1 Center housed the ERIC microfiche collec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K-12 Magazi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ose magazines whose intended audience is PK-12 students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3 – Have PK-12 magazines in Center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 – Allow magazines to check ou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8 – Keep backfiles of the magazin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yr/2 yr/3 yr/5 yr/complete ru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6 – House some professional magazin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ne Center has 71 PK-12 or professional magazine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K-12 Magazi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dget rang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tions of the whole budg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fts from Facul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other Department’s Responsi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K-12 Magazines</a:t>
            </a:r>
            <a:br>
              <a:rPr sz="44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(a few of the titles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by Bu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ppy Tim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lliop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ghligh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ildren’s Playmat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truc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icad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ilbo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ilbox Bookba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bblesto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chigan History for K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nected Newslett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icke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t.Geographic for K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cover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w Mo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c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dysse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K-12 Magazi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nger Ric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kipping St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one So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weet 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me for K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ll Street Classroom Ed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ooboo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pecial Colle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lbion College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ambios Juvenile Coll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ndrews University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University’s Cassette Tape Collection, Map Collection, Vertical &amp; Story File Col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vin College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Vertical F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entral Michigan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ichigan Textbook Collection, Michigan Schools in the Middle Coll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Hope College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ollege’s Cassette Tape Coll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Marygrove College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ducation Peace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akland University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ollection of Award Winning Juvenile Books, Graphic Novel Collection, Children's Tradebook Examination Cent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ahoma"/>
              </a:rPr>
              <a:t>Responsible Units: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5 – Librar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7 – Education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 – Other Academic Dept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 - TB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pecial Colle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aginaw Valley State University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ES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llection, Center for Economic Education, Michigan Special Education Archi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iena Heights University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rt Coll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pring Arbor University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hart and Picture File Coll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Wayne State University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ildred Jeffrey Collection of Peace &amp; Conflict Resolution, Millicent A. Wills Collection of Urban Ethnic Materials, Ramsey Collection of Children’s Litera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pecial Collections: Education Test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- ETS (Education Testing Servic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in the Education 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in the Main 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 - Specialized Tests (i.e.-Peabod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- Older Specialized Tests in Center an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ows students to check o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pecial Collections: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apstones, Projects, Thes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– Senior Capst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 – Master’s Projects or The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– Kept in a separate area in the library bu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near the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– Not catalog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– In the process of moving to differen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location nearer to the College of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pecial Collections: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apstones, Projects, Thes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talog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 – Cataloger at Main 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 – Center’s Dire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ject Head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 – Library of Congr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– Se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– ERIC Descript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– TB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Video/DVD Collections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3818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ose materials used for profession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ment of education students 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erials education students used 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 lesson pla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ideo/DVD Colle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 – Have education videos/DV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1 – Located in Cen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 – Located in Libra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– Videos/DVDs located elsewhere o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amp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– Do not have videos/DV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– TB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ideo/DV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dget rang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tions of the whole budge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Nee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 Student F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other Department’s Responsi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ideo/DVD Reservation System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- In-house manual booking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 - Used online catalog reservatio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- Uses both manual and electronic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s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Equipment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Machines used to assist in lesson planning.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 - Provide some form of media service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AS PART of the Cen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– Library provides media servic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- Media services are either in close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ximity to the Center or elsewher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 camp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- TB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- Do not have any equip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quip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dget Ranges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tions of the whole budg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Nee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 Student F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lf-fun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other Department’s Responsi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enter Budge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laries: Not enough information provide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ascert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cilities: Information too complex to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ly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al Fu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er Academic Units/Programs –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verdue Fines, Services – 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quip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nding Machine - 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lor Pri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-Colors -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ll Color Printer -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e Cu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cucut -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lison - 1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beling Machine - 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minator - 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t Press -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aque Projector -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ypewriter -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quip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mitat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ion Students/Faculty only -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y Student, Faculty, or Staff – 1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ailable to Any Patron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available to Non-Affiliated Patron -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mination by Staff person only -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services performed by Staff person only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echnology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Technology (computers, software, digital equipment, cameras, etc.) used in lesson planning or portfolio development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 provide technology services as part of the Cen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provide technology services near to th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n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provides technology services within th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TB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echnolog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dget Ran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tions of the whole budge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Nee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 Student F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other Department’s Responsi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echnolog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14240" y="1676160"/>
            <a:ext cx="4800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pe Recorder – 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uters - 13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Camer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1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anner - 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ide Projector – 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pod - 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deo Camera - 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Camcorder -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laroid Camera -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echnology Check Ou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4724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Camera – 14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pe Recorder - 1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ide Projector – 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pod - 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deo Camera - 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Camcorder – 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uters -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D Player - 1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laroid Camera -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mputer Technolog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uter Acces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3 have computers in the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 have a computer lab as part of the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 have a computer classroom near the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mputer Technolog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971440" y="1981080"/>
            <a:ext cx="38862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C-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c –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C &amp; Mac -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tworked - 1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reless - 1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mputer Technolog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ag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eral Use - 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ructions -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tfolio Development -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entations -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earch -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ftware Review -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oftware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Software used in lesson planning or for evaluation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provide education software AS PART of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en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recently eliminated all education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ftware from its coll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llection Budge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ly one Center breaks down the budget by resource typ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Textbooks, Hands-On/Manipulatives, Videos, etc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others either do NOT have a budget or purchase resources from a general collection budg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ree collections rely exclusively on gif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ftwa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dget Ran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tions of the whole budge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Nee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 Student F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eb Pag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een curriculum centers have web pag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ission Statemen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n have mission statements on their web pag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838080" y="106668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Closed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University of Michigan – Ann Arb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blem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6629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y have one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o will it serve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at will it hold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ere will it be located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CRL Standards &amp; Guidelines</a:t>
            </a:r>
            <a:br>
              <a:rPr sz="44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www.ala.org/ala/acrl/acrlstandards/guidelinescurriculum.htm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Guidelines for Curriculum Materials Cen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Approved by ACRL and ALA, January 2003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urriculum materials centers are essential to the instructional and research needs of students and faculty in programs preparing educators for P-12 schools. These guidelines describe essential elements of administration, services, and collections for curriculum materials centers in all university and college settings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se guidelines are intended for administrators at all levels of post-secondary education, particularly education deans or department chairs; library deans or directors; librarians responsible for curriculum materials centers; and accrediting and licensure agencies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DEFINITIONS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P-12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refers to preschool through twelfth grade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Curriculum materials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are educational resources that provide curriculum and instructional experiences for P-12 students. These materials are used by educators to develop curricula and lesson plans and may also be used in actual instructional situations with P-12 students. These materials also provide information for those doing research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Curriculum Materials Center (CMC)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refers to a physical location of a curriculum materials collection. Curriculum materials centers are often housed in a main campus library, a branch library building, or in an academic building housing the campus education academic programs.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CMC users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are education students and faculty, and may also include P-12 educators, other students, and community members as defined by the CMC’s mission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Director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refers to the librarian who has primary responsibility for the CMC; its facilities, administration, collection, personnel, and servic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tact Inform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295280" y="1676160"/>
            <a:ext cx="6400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ta Kohr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ducation Resources Librari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nd Valley State Univer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elcase Libr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nd Rapids, MI 4950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16.331.262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hrmanr@gvsu.ed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ollection Budget Ranges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nges of $0 to $32,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dowment – 1 ($1,000/y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 Needed – 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pendent upon Student Fees –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BD –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fts from Faculty or Textbook Compani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ypes of Colle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xtbook Collections (Txbk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xtbook with Supplements/Activity Boo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xbk with Manipulative Col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xbk with Juvenile Collection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xbk with Special Collectio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xbk with Video Collectio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xbk with Media Prod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any combination of the above!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ahoma"/>
              </a:rPr>
              <a:t>Collections</a:t>
            </a:r>
            <a:br>
              <a:rPr sz="48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(2 Collections TBD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xtbooks/Supplements – 22 (3 rely on gift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nds-On – 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ers – 11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ps – 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ppets – 1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deos – 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ftware – 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venile –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 – (Audio - 2; Vertical File - 3; Tests - 2;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iculum Guides - 2; Special -11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ccess to Collec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assification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5 - Library of Congr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 used LC for Professional Materials on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 - Dew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d in schoo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 used for the Juvenile Collection on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- In-House for all or part of their col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- TB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ccess to Collec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 - Accessed by Library Online Catalo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- Juvenile Collection on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- Professional Materials on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- TB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 - May be accessed through MEL C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21:21:21Z</dcterms:created>
  <dc:creator>Rita</dc:creator>
  <dc:description/>
  <dc:language>en-US</dc:language>
  <cp:lastModifiedBy>kohrmanr</cp:lastModifiedBy>
  <dcterms:modified xsi:type="dcterms:W3CDTF">2007-12-19T16:57:24Z</dcterms:modified>
  <cp:revision>167</cp:revision>
  <dc:subject/>
  <dc:title>Curriculum Materials Centers in the State of Michigan</dc:title>
</cp:coreProperties>
</file>