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04E-9054-415D-AE14-3FD96174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83D-DB20-453D-9CCD-928A81E5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FCD-45FD-40C1-A4D1-E1AB0CE9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B3A-DCA7-41C5-B682-33D74C41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132E-AC4E-412F-A71B-80223E56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87E5-E09F-4E5F-A93F-FFA3822C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5F2F-C392-4599-8371-E9653D05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4CC8-AFDC-42AC-8E00-894D7814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7FB0-CF9E-4D63-8C05-7AC3D45A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ADC6-AEF2-46D7-8E06-722DBC85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1454-F2EE-40AB-BBCE-1453541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AD6-5B28-483F-9505-6AA72FCB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5F32-29E7-4785-841A-5D8B81A5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47F4-E296-4B7C-B782-62B2099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E147-FEF6-4A78-B74B-F2CA5ECC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9186-9BCD-4220-BEFF-601B2D86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857C-0CE1-4977-8F8A-5C5121FD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F00-2E88-4DB8-BB21-D88A9D85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503-DE75-436A-B66A-7354C835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ED4-1253-4763-8137-273D873B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AE6-6C0D-4CCF-B52F-70CBF3B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AE4-E915-49EA-8BF0-34E0FB44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EE5-A964-4C58-8E4B-8927B61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C47-E090-44A4-AD35-CF6CEC8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C94A-3BFA-48A5-8883-ACE7A5C5D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03A0-AC29-4C4B-9A2C-6E8E9E31D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gets, Collections, and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Policies currently being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olicies incorporated with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dure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 – Policies in 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Policies incorporated with the 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Guide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– Not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Not applic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library Lo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1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lements/Activity 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R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1 Center housed the ERIC microfiche col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se magazines whose intended audience is PK-12 student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 – Have PK-12 magazines in Cent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– Allow magazines to check ou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 – Keep backfiles of the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yr/2 yr/3 yr/5 yr/complete ru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 – House some professional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Center has 71 PK-12 or professional magazin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fts from Facu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a few of the titles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by Bu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ppy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op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ren’s Playm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ca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 Bookb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bblest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higan History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ed Newslet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ck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.Geographic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yss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r Ri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pping 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ne S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for K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l Street Classroom 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o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bio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mbios Juven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drew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iversity’s Cassette Tape Collection, Map Collection, Vertical &amp; Story F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vi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rtical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ntral Michigan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chigan Textbook Collection, Michigan Schools in the Midd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op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ge’s Cassette Tap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ygrov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ducation Pea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akland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ction of Award Winning Juvenile Books, Graphic Novel Collection, Children's Tradebook Examination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5 – Librar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7 – Educa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– Other Academic Dept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- TB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ginaw Valley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S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ion, Center for Economic Education, Michigan Special Education Arch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ena Height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t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ring Arbor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t and Picture F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yne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ldred Jeffrey Collection of Peace &amp; Conflict Resolution, Millicent A. Wills Collection of Urban Ethnic Materials, Ramsey Collection of Children’s Lit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Education Tes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ETS (Education Testing Servi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- Specialized Tests (i.e.-Peabod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Older Specialized Tests in Center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students to check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enior Capst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Master’s Projects or The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Kept in a separate area in the library bu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t catalo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In the process of moving to differ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location nearer to the College of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Cataloger at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Center’s Dir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Hea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S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ERIC Descrip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TB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se materials used for profes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ducation students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s education students us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sson pl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– Have education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Located in Cen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ocated in Libr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Videos/DVDs located elsewhere 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Do not have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Reservation 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In-house manual booking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- Used online catalog reserv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Uses both manual and electron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quipment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achines used to assist in lesson planning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- Provide some form of media servic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Library provides media servi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Media services are either in close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ximity to the Center or elsewhe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Do not have any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-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aries: Not enough information provid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sc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ies: Information too complex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al Fu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Academic Units/Program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due Fines, Services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nding Machine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r Pr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Colors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Color Printer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Cu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cut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ison - 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eling Machine -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or -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 Press -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aque Projector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writer 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Students/Faculty only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udent, Faculty, or Staff –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to Any Patr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vailable to Non-Affiliated Patron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ion by Staff person only -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services performed by Staff person only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chnology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echnology (computers, software, digital equipment, cameras, etc.) used in lesson planning or portfolio development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provide technology services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 technology services near to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s technology services within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–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1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ner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 Check 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 – 1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D Player -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Acce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 have computers in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have a computer lab as part of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have a computer classroom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71440" y="1981080"/>
            <a:ext cx="3886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-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 –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 &amp; Mac -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-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reless -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Use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s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folio Development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Review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ftwar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ftware used in lesson planning or for evaluation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provide education software AS PART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recently eliminated all education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ware from its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one Center breaks down the budget by resource ty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Textbooks, Hands-On/Manipulatives, Video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thers either do NOT have a budget or purchase resources from a general collection budg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collections rely exclusively on gif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b P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een curriculum centers have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ssion Stat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have mission statements on their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10666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os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niversity of Michigan – Ann Arb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629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have on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o will it serv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will it hol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will it be locat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Standards &amp; Guidelines</a:t>
            </a:r>
            <a:br>
              <a:rPr sz="44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www.ala.org/ala/acrl/acrlstandards/guidelinescurriculum.htm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Guidelines for Curriculum Materials Cen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pproved by ACRL and ALA, January 200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urriculum materials centers are essential to the instructional and research needs of students and faculty in programs preparing educators for P-12 schools. These guidelines describe essential elements of administration, services, and collections for curriculum materials centers in all university and college setting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guidelines are intended for administrators at all levels of post-secondary education, particularly education deans or department chairs; library deans or directors; librarians responsible for curriculum materials centers; and accrediting and licensure agencie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FINITION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P-1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preschool through twelfth grade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MC user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 students and faculty, and may also include P-12 educators, other students, and community members as defined by the CMC’s mission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Director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the librarian who has primary responsibility for the CMC; its facilities, administration, collection, personnel, and serv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lcase 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Rapids, MI 495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llection Budget Rang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s of $0 to $32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owment – 1 ($1,000/y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nt upon Student Fee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BD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fts from Faculty or Textbook Compan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Collections (Txbk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with Supplements/Activity 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Collections</a:t>
            </a:r>
            <a:br>
              <a:rPr sz="4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2 Collections TBD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/Supplements – 22 (3 rely on gif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 –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 – 1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 – 1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–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(Audio - 2; Vertical File - 3; Tests - 2;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Guides - 2; Special -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fication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 -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used LC for Professional Materials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- Dew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in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used for the Juvenile Collection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- In-House for all or part of their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- Accessed by Library Online Catal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Juvenile Collection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Professional Material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- May be accessed through MEL 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21:21:21Z</dcterms:created>
  <dc:creator>Rita</dc:creator>
  <dc:description/>
  <dc:language>en-US</dc:language>
  <cp:lastModifiedBy>kohrmanr</cp:lastModifiedBy>
  <dcterms:modified xsi:type="dcterms:W3CDTF">2007-12-19T16:57:24Z</dcterms:modified>
  <cp:revision>167</cp:revision>
  <dc:subject/>
  <dc:title>Curriculum Materials Centers in the State of Michigan</dc:title>
</cp:coreProperties>
</file>