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7B12-6D4F-4839-9316-68B1124BC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C79A-0B0D-4CC9-B611-92DC2E077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4804-6843-4EF5-BA6A-D3D24DAEA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B7E8-5A50-4F8C-8957-4A1FF93E6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8B3F7-7765-4692-B915-B86D67188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E7B36-A0F4-401A-9354-F62DC2DDC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6BC1B-0619-4810-B383-F46061E55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03258-E1F6-4952-B247-627874027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9E969-B5FD-4411-9CE1-8916B19E1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CCC8E-23A8-48AE-8785-C37183188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C5322-5B56-4967-BEF2-07C1A6EB4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6CED-B0CA-4ED7-B1A1-B2B110444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B07A8-AE14-4344-831B-9B47EE832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E626D-B426-4C7F-AF86-8CCBCB644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312EE-07DA-43A7-B9D3-E28B00565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A77BA-FFF5-4DE3-8921-E2306028B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386C1-2CE4-4372-BD38-6690B2CE4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230D-2DA9-42A6-985B-4F6668A5D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6136-A2C7-432D-978D-F617A07C1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8CBD-2574-4F8F-AD60-FAA907922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0B00-115C-439B-827E-DDAE0422A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1793-FD5C-435D-AA47-2686D9CC8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159A-64A7-4362-A193-B341AD0E0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C79C-C684-479C-90E5-93B9E838F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32035-9971-497D-8EDF-E0D930486BB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EB354-1400-4103-8720-CAA2C289C8A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8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8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ala.org/ala/acrl/acrlstandards/guidelinescurriculum.htm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Curriculum Materials Centers in the State of Michigan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Sabbatical Report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24 Centers/Collections/Locations/</a:t>
            </a:r>
            <a:br>
              <a:rPr sz="3600"/>
            </a:b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Responsible Units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ducation Curriculum Cen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drian Colle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dri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pt. of Educ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5127480" y="1981080"/>
            <a:ext cx="307836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038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Under Constructio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/Ferguson Center for Technology-Aided Teach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bion Colle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bio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pt. of Educ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648320" y="1536840"/>
            <a:ext cx="4038480" cy="364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669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urriculum and Juvenile Collec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ma Colle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m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bra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648320" y="1612800"/>
            <a:ext cx="4038480" cy="349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384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ry Jane Mitchell Multimedia Cen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drews Univers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rrien Spring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bra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724280" y="1295280"/>
            <a:ext cx="3962520" cy="26672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5343480" y="4114800"/>
            <a:ext cx="2648160" cy="198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4038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urriculum and Juvenile Collec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quinas Colle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rand Rapi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brary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4572000" y="1460520"/>
            <a:ext cx="4038480" cy="387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05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urriculum Cen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lvin Colle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rand Rapi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structional Resource Cen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4648320" y="1536840"/>
            <a:ext cx="4038480" cy="302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05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4038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structional Materials Cen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entral Michigan Univers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t. Pleasa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ducation and Human Servic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4267080" y="1219320"/>
            <a:ext cx="4572000" cy="391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urriculum and Juvenile Collec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cordia Univers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n Arb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bra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5127480" y="1066680"/>
            <a:ext cx="307836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urriculum Materials Cen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rnerstone Univers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rand Rapi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bra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4648320" y="1219320"/>
            <a:ext cx="4038480" cy="341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384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ducational Resource Cen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astern Michigan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ivers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psilant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llege of Educ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648320" y="1143000"/>
            <a:ext cx="4038480" cy="391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120" y="1371600"/>
            <a:ext cx="7696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Rita Kohrman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295280" y="2895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ducation Resources Librari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rand Valley State Univers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lendale, Michig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81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38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arly Childhood Manipulative Colle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erris State Univers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ig Rapi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bra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4813200" y="1143000"/>
            <a:ext cx="3706920" cy="495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520" y="143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indergarten through Twelve Grade Curriculum Resource Center (KCRC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rand Valley State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ivers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lenda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bra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4648320" y="1371600"/>
            <a:ext cx="4038480" cy="32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05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urriculum Library and Tech Lab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pe Colle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lla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bra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5105520" y="1219320"/>
            <a:ext cx="307800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40384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ducation Libra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alamazoo Colle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alamazoo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pt. of Educ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4572000" y="1295280"/>
            <a:ext cx="4038480" cy="302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81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urriculum and Juvenile Collec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rygrove Colle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tro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bra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4648320" y="176220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38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ducational Resources Lab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akland Univers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oches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chool of Educ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4648320" y="1295280"/>
            <a:ext cx="4038480" cy="379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038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gional Education Resource Cen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aginaw Valley State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ivers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agina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llege of Educ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4572000" y="1014480"/>
            <a:ext cx="4038480" cy="406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81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arver Education Technology and Curriculum Lab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ena Heights Univers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dri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bra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648320" y="1765440"/>
            <a:ext cx="4038480" cy="302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acher Education Resources and Materials Production Lab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pring Arbor Univers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pring Arb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bra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5334120" y="1371600"/>
            <a:ext cx="2666880" cy="23623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5334120" y="3809880"/>
            <a:ext cx="2647800" cy="198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05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28240" y="990720"/>
            <a:ext cx="441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urriculum and Juvenile Collec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iversity of Detroit –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rc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tro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bra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4724280" y="990720"/>
            <a:ext cx="3819600" cy="510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19810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Part I</a:t>
            </a:r>
            <a:br>
              <a:rPr sz="2800"/>
            </a:b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Facilities and Staffing</a:t>
            </a:r>
            <a:br>
              <a:rPr sz="3600"/>
            </a:b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79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urriculum Laboratories and Materials Preparation Cen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iversity of Michigan –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arbor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arbor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chool of Educ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648320" y="1981080"/>
            <a:ext cx="403848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4876920" y="1676520"/>
            <a:ext cx="3657600" cy="358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4038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Under  Constru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iversity of Michigan - Fli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li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 be located in Library but responsible unit not yet determin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4648320" y="1066680"/>
            <a:ext cx="4038480" cy="41148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5410080" y="2362320"/>
            <a:ext cx="2590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o Picture Avail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(In boxes in closet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-93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4495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urriculum and Juvenile Collec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ayne State Univers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tro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bra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4648320" y="990720"/>
            <a:ext cx="4038480" cy="49528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320" y="914040"/>
            <a:ext cx="4038840" cy="68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41911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ducation Libra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stern Michigan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ivers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alamazo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bra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4724280" y="1219320"/>
            <a:ext cx="4038840" cy="302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ype of Institutions: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10 = Public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14 = Religious Affiliated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305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Responsible Units: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15 – Library (63%)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7 – Education (29%)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1 – Other Academic Dept. (4%)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1 – TBD (4%)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Location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14 – Area or ranges within Librar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8 – Separate area within Educati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building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2 – Separate building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eaching &amp; Tour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9 – Able to teach in or in near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proximity to the Cente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17 – Provided tour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quare Footag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9 – Ranges of various amou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p 6 Centers (includes work areas &amp; lab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9700 – Central Michiga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7370 – Saginaw Valley State Univers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6189 – Oakland Univers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5760 – Calvin Colle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5746 – Andrews Univers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590 – Hope Colle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quare Footag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645 – Spring Arbor Univers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500 – Lake Superior State Univers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472 – Univ. of Michigan – Dearbor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137 – Eastern Michigan Univers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909 – Siena Heights Universit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768 – Grand Valley State Univers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400 – Cornerstone Univers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864 – Marygrove Colleg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561 – Adrian Colleg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Definit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Curriculum material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re educational resources that provide curriculum and instructional experiences for P-12 students. These materials are used by educators to develop curricula and lesson plans and may also be used in actual instructional situations with P-12 students. These materials also provide information for those doing research.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ACRL Standards &amp; Guidelines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www.ala.org/ala/acrl/acrlstandards/guidelinescurriculum.htm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ecurity of the Collect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5 – 3M Secur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 – Checkpoint Secur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 – Gaylord Secur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 – ID Security Syste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 – Provided no secur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 – TB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helving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1 – Regular shelving &amp; deep shelving to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hold oversized or manipulative ite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 – Bookcas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 – Deep shelving to contain plastic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containers holding manipulativ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 – Storage for older or little used ite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Outlet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5 with Floor Outlets; 2 want Floor Outlet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4 with Wall Outle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 TB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8 – Enoug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7 – Mo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7 – N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4648320" y="2527200"/>
            <a:ext cx="4038480" cy="302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ccess to Copier Machin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l provided access to a copier machine either within the Center or near b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6 provided color copi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2 copiers used coi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1 copiers used copier car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6 copiers used coins and/or card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4 provided free copying or paid by student course fee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 would bill a student’s accou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 TB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Hour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61.18 hours - Mean number of hours of service or access to the colle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nday: 5.36 ho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nday: 12.64 ho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uesday: 12.46 ho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dnesday: 12.45 ho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ursday: 12.37 ho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riday: 8.9 ho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aturday: 5.47 ho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Total Mean Number of Hours of Service or Access Per Week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1.76 hours – Mean weekday hou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5.42 hours – Mean weekend hou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61.18 hours – Total mean number of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hou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“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Director”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47920" y="1981080"/>
            <a:ext cx="7238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7 – M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 – K12 Library Certific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7 – K12 Teacher Certific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ther – 2 - PhD in Educati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–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 - B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–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 - MA in Educati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 – TB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Directors’ Offic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590920" y="2057040"/>
            <a:ext cx="50292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8 – In Cente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11 – Near Cente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2 – Other location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3 – N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taff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7 – Librarian (1 half tim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7 – Coordinat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taloger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 – 2 Part time at one facilit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4 – Center’s Librari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4 – Library Cataloger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 – Split cataloging between Coordinators &amp; Library Cataloger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 – TB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 – No cataloging necessa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taff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ircul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 – Designated staff memb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0 – No specifically designated Staff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1 – Used Library Circulation Staff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 – TB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 – Cleric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ypes of Collection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xtbook Collections (Txbk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xbk with Manipulative Collect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xbk with Juvenile Collections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xbk with Special Collection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xbk with Video Collection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xbk with Media Produc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d any combination of the above!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taff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chnical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 – Shared with Librar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 – 2 Part time at one facilit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ther – 1 (Collection Development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pecialist - part tim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taff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ud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1 – Undergraduate stude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anging from 2 to 17 undergraduate studen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 – Graduate stude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anging from 2 to 3 graduate studen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taff Number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ut of 17 directors, only 3 are full time at the Curriculum Center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wo professionals are part tim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ine paraprofessionals are full tim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 paraprofessionals are part time at one facilit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ighteen share duties with the librari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an total of student workers is 8.75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rofessional Developmen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5715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brarians – 1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ordinators – 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talogers – 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irculation – 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erical – 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chnical – 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udents – 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ther – 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rofessional Conferenc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LA – 1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CUL – 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ME – 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ACTE – 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A – 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CRL – 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CD – 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ther – LOEX, MRA, IRA, Assoc. of Christian Librarians, Assoc. of Educ. Communications &amp; Technology, ECI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rofessional Allocation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6933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$50 to $1,000 with grants availab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s need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ontact informat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2209680" y="1981080"/>
            <a:ext cx="518184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ita Kohrm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ducation Resources Librari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Zumberge Libra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rand Valley State Univers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lendale, MI 4940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616.331.262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ohrmanr@gvsu.ed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Definit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Curriculum Materials Center (CMC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refers to a physical location of a curriculum materials collection. Curriculum materials centers are often housed in a main campus library, a branch library building, or in an academic building housing the campus education academic programs.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51960" indent="-221400"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CRL Standards &amp; Guidelines</a:t>
            </a:r>
            <a:br>
              <a:rPr sz="1800"/>
            </a:br>
            <a:r>
              <a:rPr b="0" lang="en-US" sz="18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www.ala.org/ala/acrl/acrlstandards/guidelinescurriculum.ht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roblem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y “Expectations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urriculum Materials – enormous variet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dia Production / Education Equipment – some have; some don’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chnology Labs – some have; some don’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uvenile Collection – some have; some don’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pecial Collections – some have; some don’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Names of Center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4648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urriculum Cent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urriculum Material(s) Cent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urriculum Resource(s) Cent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urriculum Collec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urriculum Laborator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urriculum Librar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structional Cent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structional Material(s) Cent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structional Media Cent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structional Resource(s) Cent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ducation Lab or Laborator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ducation Librar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ducation Resource(s) Cent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48320" y="9907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earning Laboratory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aterials Preparation Lab or Center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edia Cent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eaching &amp; Learning Cent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eacher Education Cent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eacher Education Resources and Servic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eacher Materials, Microforms, and Media Departmen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eacher Resource Cent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enter or Collection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5 – Centers in a designated space or being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built in a designated spa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8 – Collections located as part of the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libraries’ collection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 – Collection in Education Faculty’s Offi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1T18:16:33Z</dcterms:created>
  <dc:creator>Rita</dc:creator>
  <dc:description/>
  <dc:language>en-US</dc:language>
  <cp:lastModifiedBy>kohrmanr</cp:lastModifiedBy>
  <dcterms:modified xsi:type="dcterms:W3CDTF">2007-12-19T16:52:38Z</dcterms:modified>
  <cp:revision>147</cp:revision>
  <dc:subject/>
  <dc:title>Curriculum Materials Centers in the State of Michigan</dc:title>
</cp:coreProperties>
</file>