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22F-25EB-459A-A823-F95C4A26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601-9A4D-4E89-98EA-E1AE6B8C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EB1-C7ED-4692-B23A-48FCFEE7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A99-5085-47FE-82FB-EC9CC192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F16E-2509-4E69-9201-D29EDA3B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1A0F-B256-44BA-9EF9-11CAF06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C2A-3805-4F44-B3C7-A29D3DC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A425-9B4D-44E4-881A-CC98745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79C-5A98-423A-A4DF-B15F6018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592E-6C0A-41C4-82A9-DE8A3230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4C2-01D2-49EB-B7E7-8DD4603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2EE-5623-4AB4-A496-811F0A91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21BD-B874-44D7-B327-FBC21F5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0A39-A2FA-463C-85EC-63797CD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E56D-C711-4885-9400-711EEFAE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4E58-58B3-4073-BE0D-624DFC5F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83C6-64F4-41A4-92C5-7808DC81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4AC-BEA6-4CA3-A9B5-45565E1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D16-94A5-4C98-9649-DAC30AC5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B02-90D6-423B-9437-8EA9CCDF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8E5-84F2-46D8-9151-C2DD562E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F36-3515-46B5-B790-3E3B95D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845-3816-49CD-952B-961930E1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020-6044-496E-A257-9C0772D0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64B-46A7-47D5-BBF6-5F8CA2244D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1D48-A576-42C5-B32A-947AE2472D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a.org/ala/acrl/acrlstandards/guidelinescurriculum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bbatical Repor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4 Centers/Collections/Locations/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sponsible Uni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2748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Co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Ferguson Center for Technology-Aided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12800"/>
            <a:ext cx="403848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Jane Mitchell Multimedia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rien Sp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43480" y="4114800"/>
            <a:ext cx="26481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quinas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460520"/>
            <a:ext cx="40384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. Pleas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57200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ordia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27480" y="10666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038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sila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ta Kohrma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ndale, Michi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Childhood Manipulativ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is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13200" y="114300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dergarten through Twelve Grade Curriculum Resource Center (KCR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ibrary and Tech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07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grov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s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he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Education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101448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ver Education Technology and Curriculum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ena Height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Education Resources and Materials Production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6478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troit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196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ilities and Staffing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aboratories and Materials Preparation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- 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located in Library but responsible unit not yet det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23623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Picture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 boxes in clos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yne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320" y="914040"/>
            <a:ext cx="4038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 of Institution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 = Publi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4 = Religious Affilia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5 – Library (63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7 – Education (29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Other Academic Dept. (4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TBD (4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 – Area or ranges within Libr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Separate area within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Separate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ing &amp; T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 – Able to teach in or in nea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roximity to the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7 – Provided tou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Ranges of various am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6 Centers (includes work areas &amp; la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00 – Central Michig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0 – Saginaw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89 – 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60 – 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46 – 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90 – 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45 – 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00 – Lake Superior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72 – Univ. of Michigan – 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37 – Eastern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09 – Siena Heights Univers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68 – 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00 – 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 – Marygrove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61 – Adria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ala.org/ala/acrl/acrlstandards/guidelinescurriculum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of the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3M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heckpoint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Gaylord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ID Security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rovided no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elv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Regular shelving &amp; deep shelving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ld oversized or manipulative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Bookc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Deep shelving to contain plast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ers holding manipul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torage for older or little us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with Floor Outlets; 2 want Floor Outle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with Wall Out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–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pier Mach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vided access to a copier machine either within the Center or near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vided color cop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copiers used co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copiers used copier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copiers used coins and/or c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provided free copying or paid by student course fe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ould bill a student’s ac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- Mean number of hours of service or access to the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day: 5.3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12.64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12.4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12.45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12.3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8.9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day: 5.4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otal Mean Number of Hours of Service or Access Per Wee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76 hours – Mean weekday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42 hours – Mean weekend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– Total mean number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M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– K12 Library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K12 Teacher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2 - PhD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MA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s’ Off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In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 – Near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Other 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Librarian (1 half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Center’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– Library Catalog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Split cataloging between Coordinators &amp; Library Catalo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 cataloging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Designated staff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– No specifically designated Sta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sed Library Circulati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Cle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book Collections (Txb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Shared with Libr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1 (Collection Develop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st - part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nder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17 under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3 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 Nu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17 directors, only 3 are full time at the Curriculum Cen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ofessionals are par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paraprofessionals are full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paraprofessionals are part time at one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een share duties with the libr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total of student workers is 8.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Develo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 – 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ors –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ogers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ical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cal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Con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UL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E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CTE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RL –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LOEX, MRA, IRA, Assoc. of Christian Librarians, Assoc. of Educ. Communications &amp; Technology, EC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Al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50 to $1,000 with grant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5181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berge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, MI 494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800"/>
            </a:b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ala.org/ala/acrl/acrlstandards/guidelinescurriculum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Expectati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– enormous var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 Production / Education Equipment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Lab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Collection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ollection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 of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ol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ab or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Laborato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s Preparation Lab or Cent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&amp; Learning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Resources an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Materials, Microforms, and Media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Resource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or Collectio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Centers in a designated space or be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built in a designat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Collections located as part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ies’ col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ollection in Education Faculty’s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16:33Z</dcterms:created>
  <dc:creator>Rita</dc:creator>
  <dc:description/>
  <dc:language>en-US</dc:language>
  <cp:lastModifiedBy>kohrmanr</cp:lastModifiedBy>
  <dcterms:modified xsi:type="dcterms:W3CDTF">2007-12-19T16:52:38Z</dcterms:modified>
  <cp:revision>147</cp:revision>
  <dc:subject/>
  <dc:title>Curriculum Materials Centers in the State of Michigan</dc:title>
</cp:coreProperties>
</file>