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5E23-689E-4EC3-ACBD-F13DF024D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40C4-34A2-4F01-BF4B-6607F212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84EC-0E7F-4015-A5A4-1D56C70A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2D8B-01CA-418A-95CB-46151DFB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9414-0563-4531-90FF-5F290C95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22D2-E469-41DB-B147-D00699C1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242A-5974-4CA4-AD0F-4AE20A66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120A-5626-4475-9E3B-3F9BF27E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8A5E-7502-4FF4-8910-68F44855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3C90-E806-474C-9FF1-CA9885B5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F5F7-221A-43AF-B07E-464E824A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2AB1-FB69-4AE1-92D6-7210E88D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7DB0-1A76-4859-A408-41F0D291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DEF1-7FE5-44E0-8980-8D18FED0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C93E-113D-4134-A73C-643BAF6C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AAC6-0D32-4671-B0AB-C26696081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8F11-829E-4D70-A2BA-5B22F6E8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22C4-0B74-40A2-8A99-8563D848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3A57-667A-492D-9DFF-2B2CEDFF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86E0-48C0-4B94-9B32-F0E4F55F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31D9-0D79-473D-9CCD-B42041C5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98F5-DF21-4D57-9F5A-00CEB2FC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89DC-7D0D-4909-9D04-ED09EEC3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7892-7D5D-42C3-AA64-DF959F22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EBFE-C30D-49E2-9928-EC222C1FB2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C1E7-D96A-45B3-ACC3-559D20C42A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urriculum Materials Centers in the State of Michiga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t 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dgets, Collections, and Serv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llection Polic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 – Policies in p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 – No policies in p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Policies currently being develop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– Policies incorporated with th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ibrary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Policies to be determin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cedure Polic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 – Policies in pla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 – Policies incorporated with the mai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ibrary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 – No policies in p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Policies to be determin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RL Guideli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 – Not aware of the ACRL Guidel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– Aware of the ACRL Guidel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- Not applic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terlibrary Loa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920" y="1447920"/>
            <a:ext cx="6858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xtboo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11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plements/Activity Boo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s-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e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ppe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ftwa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deo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RI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1 Center housed the ERIC microfiche colle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K-12 Magazi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ose magazines whose intended audience is PK-12 students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3 – Have PK-12 magazines in Cente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 – Allow magazines to check ou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 – Keep backfiles of the magazin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yr/2 yr/3 yr/5 yr/complete ru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 – House some professional magazin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e Center has 71 PK-12 or professional magazine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K-12 Magazi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dget rang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ions of the whole budg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fts from Facul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ther Department’s 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K-12 Magazines</a:t>
            </a:r>
            <a:br>
              <a:rPr sz="44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(a few of the titles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by Bu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ppy Ti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liop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ligh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ildren’s Playmat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ruc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cad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lbo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lbox Bookb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bblesto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chigan History for K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nected Newslett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icke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.Geographic for K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cover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w Mo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c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dysse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K-12 Magazi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nger Ric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kipping St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ne So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weet 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e for K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ll Street Classroom Ed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ooboo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ecial Colle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lbion College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ambios Juvenile Col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ndrews Universit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University’s Cassette Tape Collection, Map Collection, Vertical &amp; Story Fil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vin College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ertical F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entral Michigan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ichigan Textbook Collection, Michigan Schools in the Middle Col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ope College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llege’s Cassette Tape Col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Marygrove College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ducation Peac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akland Universit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llection of Award Winning Juvenile Books, Graphic Novel Collection, Children's Tradebook Examination Cent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ahoma"/>
              </a:rPr>
              <a:t>Responsible Units: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5 – Librar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7 – Education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 – Other Academic Dept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 - TB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ecial Colle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aginaw Valley State Universit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ES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lection, Center for Economic Education, Michigan Special Education Arch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iena Heights Universit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t Col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pring Arbor Universit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hart and Picture File Col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ayne State Universit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ildred Jeffrey Collection of Peace &amp; Conflict Resolution, Millicent A. Wills Collection of Urban Ethnic Materials, Ramsey Collection of Children’s Liter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pecial Collections: Education Test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- ETS (Education Testing Servic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in the Education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in the Main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- Specialized Tests (i.e.-Peabod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- Older Specialized Tests in Center an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ows students to check 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pecial Collections: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apstones, Projects, Thes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Senior Capst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 – Master’s Projects or The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Kept in a separate area in the library bu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near th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Not catalog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In the process of moving to differen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location nearer to the College of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pecial Collections: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apstones, Projects, Thes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talog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– Cataloger at Main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– Center’s Dire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ject Head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 – Library of Cong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S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ERIC Descrip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TB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Video/DVD Collection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818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ose materials used for profess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ment of education students 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erials education students used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lesson pla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ideo/DVD Colle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 – Have education videos/DV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 – Located in Cen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 – Located in Libra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Videos/DVDs located elsewhere 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amp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Do not have videos/DV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TB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ideo/DV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dget rang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ions of the whole budge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Nee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Student F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ther Department’s 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ideo/DVD Reservation Syste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- In-house manual booking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 - Used online catalog reservati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- Uses both manual and electronic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quipment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Machines used to assist in lesson planning.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 - Provide some form of media servic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AS PART of the Ce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– Library provides media servic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- Media services are either in close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ximity to the Center or elsewher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camp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- TB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- Do not have any equi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quip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dget Range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ions of the whole budg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Nee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Student F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lf-fu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ther Department’s 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enter Budge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laries: Not enough information provide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ascert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ilities: Information too complex to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ly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al Fu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Academic Units/Programs –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due Fines, Services –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quip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nding Machine - 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or Pri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-Colors -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ll Color Printer -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e Cu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ucut -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lison - 1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beling Machine -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minator - 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t Press -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aque Projector -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ypewriter -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quip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mita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 Students/Faculty only -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Student, Faculty, or Staff – 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ailable to Any Patron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available to Non-Affiliated Patron -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mination by Staff person only -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services performed by Staff person only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echnology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Technology (computers, software, digital equipment, cameras, etc.) used in lesson planning or portfolio development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 provide technology services as part of the Ce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provide technology services near to th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provides technology services within th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TB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chn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dget Ran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ions of the whole budge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Nee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Student F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ther Department’s 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chn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14240" y="1676160"/>
            <a:ext cx="4800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pe Recorder – 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uters - 13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Camer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anner -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ide Projector –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pod - 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deo Camera - 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Camcorder -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aroid Camera -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chnology Check Ou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4724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Camera – 14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pe Recorder - 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ide Projector –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pod -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deo Camera - 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Camcorder – 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uters -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D Player - 1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aroid Camera -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mputer Techn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uter Acces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3 have computers in th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 have a computer lab as part of th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have a computer classroom near th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mputer Techn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971440" y="1981080"/>
            <a:ext cx="3886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C-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c –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C &amp; Mac -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tworked - 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reless - 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mputer Techn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ag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l Use - 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ructions -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folio Development -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entations -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 -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ftware Review -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oftware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Software used in lesson planning or for evaluation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provide education software AS PART of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e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recently eliminated all education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ftware from its coll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llection Budge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one Center breaks down the budget by resource typ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Textbooks, Hands-On/Manipulatives, Videos, etc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others either do NOT have a budget or purchase resources from a general collection budg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e collections rely exclusively on gif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ftwa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dget Ran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ions of the whole budge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Nee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Student F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eb Pag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een curriculum centers have web pag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ission Stateme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 have mission statements on their web pag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838080" y="106668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losed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University of Michigan – Ann Arb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ble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6629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y have one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o will it serve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will it hold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ere will it be located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RL Standards &amp; Guidelines</a:t>
            </a:r>
            <a:br>
              <a:rPr sz="44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www.ala.org/ala/acrl/acrlstandards/guidelinescurriculum.htm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Guidelines for Curriculum Materials Cen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Approved by ACRL and ALA, January 2003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urriculum materials centers are essential to the instructional and research needs of students and faculty in programs preparing educators for P-12 schools. These guidelines describe essential elements of administration, services, and collections for curriculum materials centers in all university and college settings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guidelines are intended for administrators at all levels of post-secondary education, particularly education deans or department chairs; library deans or directors; librarians responsible for curriculum materials centers; and accrediting and licensure agencies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DEFINITIONS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P-12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refers to preschool through twelfth grade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Curriculum materials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are educational resources that provide curriculum and instructional experiences for P-12 students. These materials are used by educators to develop curricula and lesson plans and may also be used in actual instructional situations with P-12 students. These materials also provide information for those doing research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Curriculum Materials Center (CMC)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refers to a physical location of a curriculum materials collection. Curriculum materials centers are often housed in a main campus library, a branch library building, or in an academic building housing the campus education academic programs.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CMC users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are education students and faculty, and may also include P-12 educators, other students, and community members as defined by the CMC’s mission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Director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refers to the librarian who has primary responsibility for the CMC; its facilities, administration, collection, personnel, and servi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tact Inform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295280" y="167616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ta Kohr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tion Resources Librari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nd Valley State Univer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elcase Libr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nd Rapids, MI 4950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16.331.262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hrmanr@gvsu.ed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ollection Budget Range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nges of $0 to $32,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owment – 1 ($1,000/y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Needed –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endent upon Student Fees –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BD –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fts from Faculty or Textbook Compani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ypes of Colle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xtbook Collections (Txbk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xtbook with Supplements/Activity Boo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xbk with Manipulativ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xbk with Juvenile Collection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xbk with Special Collec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xbk with Video Collec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xbk with Media Pro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any combination of the above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ahoma"/>
              </a:rPr>
              <a:t>Collections</a:t>
            </a:r>
            <a:br>
              <a:rPr sz="48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(2 Collections TBD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xtbooks/Supplements – 22 (3 rely on gift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s-On – 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ers – 11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s – 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ppets – 1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deos – 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ftware – 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venile –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– (Audio - 2; Vertical File - 3; Tests - 2;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Guides - 2; Special -1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cess to Collec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ssification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5 - Library of Cong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used LC for Professional Materials on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 - Dew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d in schoo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 used for the Juvenile Collection on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- In-House for all or part of their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- TB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cess to Collec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 - Accessed by Library Online Catalo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- Juvenile Collection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- Professional Materials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- TB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 - May be accessed through MEL C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21:21:21Z</dcterms:created>
  <dc:creator>Rita</dc:creator>
  <dc:description/>
  <dc:language>en-US</dc:language>
  <cp:lastModifiedBy>kohrmanr</cp:lastModifiedBy>
  <dcterms:modified xsi:type="dcterms:W3CDTF">2007-12-19T16:57:24Z</dcterms:modified>
  <cp:revision>167</cp:revision>
  <dc:subject/>
  <dc:title>Curriculum Materials Centers in the State of Michigan</dc:title>
</cp:coreProperties>
</file>